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C8F-33CF-426D-9869-F1820C44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447-52A3-4D29-852C-D22E7078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076-6000-482F-8E6A-50C676B1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8C7-14B4-48B2-B773-24BB80E9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82C-1219-4078-9A3D-4E88451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5A5-CD14-4160-863A-BA23B810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B4D-F6D8-4F07-A1FF-A96610C7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9F8-D041-472F-A194-3B34FC6A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709-4036-4D2B-82AF-E19CD5D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BF6-C374-43FA-B43A-4B1FD0D4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187-0C66-4E52-89F6-955A390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438-C52D-4255-9E87-6C18A29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5948-AB75-4988-9A03-A60A20136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тикоагулантна, фибринолитичка и антитромбоцитна 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агулациона каскада – Савремени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орокомпонентни комплек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ћина активираних фактора су ензими изузев: Иа (фибрин) Ва, ВИИИ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лекси се налазе на фосфолипидној ањонској површини, за чију даљу функцију је потребан калцију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актори XИ и XИИ (каликреин), део екстринзичког пута, региструју се само у лабораторијским условима (ин витро), део су традиционалног интризичког пута и сматра се да нису од значаја за клиничко разматрањ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3500280"/>
          <a:ext cx="8372520" cy="2392560"/>
        </p:xfrm>
        <a:graphic>
          <a:graphicData uri="http://schemas.openxmlformats.org/drawingml/2006/table">
            <a:tbl>
              <a:tblPr/>
              <a:tblGrid>
                <a:gridCol w="2093760"/>
                <a:gridCol w="2092320"/>
                <a:gridCol w="2093760"/>
                <a:gridCol w="2092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Вишекомпонентни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E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нз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K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o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Супст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Ek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стринзик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 – X-a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з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V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Ткивни 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Интризик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– X-a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з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I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VI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ромбин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ром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еин 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 C 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Тромб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T</a:t>
                      </a: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ромбомод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еин </a:t>
                      </a: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агулациона каскада – Савремени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ицијациона ф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кивни фактор (</a:t>
            </a:r>
            <a:r>
              <a:rPr b="0" i="1" lang="sr-Latn-RS" sz="1600" spc="-1" strike="noStrike">
                <a:solidFill>
                  <a:srgbClr val="000000"/>
                </a:solidFill>
                <a:latin typeface="Calibri"/>
              </a:rPr>
              <a:t>Tissue factor - TF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), гликопротеин са експресијом у васкуларној адвентицији, постаје изложен оштећењем крвног 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Циркулишући фактор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везује се за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и активира 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TF/VIIa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комплекс (екстринзич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-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за) активир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се везује за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(протромбиназа) и активира малу количину протромбин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/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мплификациона фаза (100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у односу на иницијалну фаз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ромбин активира факторе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/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комплекс активира фактор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се веже за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/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комплекс (интризичк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-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за) активир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вршна ф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ромбин конвертује фибриноген у фибрин, који се полимеризуј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ромбин активира фактор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ИИИа формира тродимензионалну структуру фибри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агулациона каскада – Савремени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титромботични (антикоагулациони) механизми (спречавање даље пропагације угруш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тромбин (антитромбин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 - серпин (инхибитор серин протеазе) који инактивира тромбин (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),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теин Ц пу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ромбомодулин узрокује конформационе промене тромби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змењен тромбин није више у могућности да активира тромбоците или конвертује фибриноген у фибрин, али може да активира протеин Ц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ктивиран протеин Ц, у садејству са протеином С (кофактор), инактивира Ва и ВИИИ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нхибитор пута ткивног фактора (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issue factor patway inhibitor TFP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 – једноланчани полипептид који реверзибилно инхиби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-Т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комплек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примену антитромбозне 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тромбоцитна (антиагрегациона)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коагулант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литичк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антиагрегацион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зиторни исхемијски а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а превенција цереброваскуларних инсул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онарни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by p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стабилна анг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венција акутног инфаркта миокарда (АИ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а превенција А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штачки срчани залис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жавање АВ кани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тромбоцитни лекови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ханизам дејства лек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ив л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циклооксиген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, сулфинпиразон, флурбипрофен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флус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ње </a:t>
                      </a: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ациклин, дипиридам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фосфодиестер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пиридамол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оста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тромбоксан синтет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зоксибен, имидазол, левамис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да рецептора за тромбоксан (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XA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пипрост, ифетроб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тромбоцитни лекови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071720"/>
          <a:ext cx="8786880" cy="4511520"/>
        </p:xfrm>
        <a:graphic>
          <a:graphicData uri="http://schemas.openxmlformats.org/drawingml/2006/table">
            <a:tbl>
              <a:tblPr/>
              <a:tblGrid>
                <a:gridCol w="4071960"/>
                <a:gridCol w="4714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ханизам дејства лек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ив л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синтезе и блокада рецептор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XA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догрел, пикотам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фосфолипазе А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ок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аденозин дифосфат (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P)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гнала – антагонисти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Y</a:t>
                      </a:r>
                      <a:r>
                        <a:rPr b="0" lang="sr-Latn-R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cep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клопидин, клопидогрел, прасугрел, тикагре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улација аденилат или гуанилат цикла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ни аналози простацик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и блокада рецептор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PI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IIb/I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оклонска антитела (абциксимаб), природни антагонисти (ептифибатид), синтетски пептиди или непептиди (тиробифан, ламифибан, фрадафиб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антикоагулантн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илакса у хирург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илакса у конгестивној срчаној инсуфицијен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илакса у трудноћ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ски тромбоембол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а венска тромб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а артеријска тромб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штачки срчани залис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агулантни лекови – стара по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агонисти витамина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нокумарол, атилбискум ацетат, фениндион, варф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ректни инхибитори тромб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ракционисани хеп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кционисани хеп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тетски аналози хеп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типарин, далтепарин, еноксапарин, надропарин, тинзап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апаринук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инхибитори тромб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атробан, бивалирудин, хирудин, липеруд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агулантни лекови – нова по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ректни инхибитори биосинтезесинтезе тром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ентерал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ректни инхибитори биосинтезе тром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ентер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ректни инхибитор фактора Xа (фондапаринук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ректни инхибитори фактора X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572000" y="357120"/>
            <a:ext cx="4294080" cy="18576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la virtus praestat gaudium perpetuum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nus saepe pecces, si scias qvod nesci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ректни 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хибитори синтезе тромбина (орални антикоагуланси; антагонисти витамина К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ивати кума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тил-бискумацет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ценокумаро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нпрокум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прома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рфарин-натриј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ивати инанди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ниндио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п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фракционисани 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комолекуларни 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нокса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алт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анапро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нзап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ндапаринукс*, индиректни инхибитор факто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ректни инхибитори тром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руд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валируд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гатроб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лига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ал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бигатран етексил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ректни инхибитори фактор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варо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и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ри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о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а супстанци у испитив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који појачавају антикоагулантно деј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лопурин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миода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аболички стер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тидепресив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рициклични антидепресиви, фенотиазин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тибиотиц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ципрофлоксацин, еритромицин, метронидазол, миконазол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иметидин, омепразол, рибље уље, ман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иполипемијски леков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лофибрат, холестирамин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акса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рални хипогликемиц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лбутамид, хлорпропамид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ирокс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који слабе антикоагулантно деј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14760"/>
            <a:ext cx="40384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рбамазе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енито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ризеофулв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алоперид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ркаптопур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2714760"/>
            <a:ext cx="40384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фци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рални контрацеп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ифампиц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ибави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иринолак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итамин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тромболитичк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а оклузија периферне ар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ивна плућна ембол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ивне венске тромб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мбоза механичких вештачких срчаних валву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лузија артериовенског ша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мбоза АВ ка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емијски шлог у прва 3 с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омболитички (фибринолитички) 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истреп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теп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нектеп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тепла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и фибринолитички лекови у истраживању (десмотепласа, алфимепра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поруке за тромболитичк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тни инфаркт миокар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птокиназа 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теплаза 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тепл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ектеплаза 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кардијалне индик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окин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572000" y="357120"/>
            <a:ext cx="4294080" cy="18576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Само врлина даје трајно задовољство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Ређе би згрешио кад би знао оно што не знаш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стаза и тромб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т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дх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агул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мб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нска тромб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ртеријска тромб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бол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изиологија ендо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дотелијалне ћелије, у физиолошким условима инхибирају формирање тромба бројним механизм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креција простациклина 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GI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инхибиција агрегације и активације тромбоцит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креција азот моноксида 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вазодилатација, и инхибиција агрегације и активације тромбоцит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кспресија хепарин сулфата (активира антитромбин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кспресија тромбомодулина – ТМ (измена афинитета тромбина од активације фактора коагулације ка активацији антикоагулантних факт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кспресија инхибитора пута ткивног фактора (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tissue factor pathway inhibitor - TFPI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– инхибир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TF/VIIa/X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комплек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ке и хемијске карактеристике тромбоц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 цитоплазми активни фак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тин, миозин, тромбостенин (контрактилни протеи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доплазматучни ретикулум, Голџи апарат (велике количине калцију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тохондрије, ензимски систем 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TP, ADP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стагландини, локални хорм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ктор стабилизације фиб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ктор 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ликопротеински омотач, богат фосфолипид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и тромбоц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цитопе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лабљена производ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вестрација у слез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брзана разград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цитипенија индукована инфек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цитопенија индукована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уна тромбоцитопенијска пурпу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који могу изазвати тромбоцитопен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Хемиотерапијски агенс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посебно карбоплатина, алкилишући агенси, антрациклини, антиметаболи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нтибиотиц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сулфонамиди, пеницилини, цефалоспор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Хепар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највећа инциденца при употреби нефракционисаних препа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рдиоваскуларни агенс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тиазидни диуретици, ретко инхибитори ангиотензин-конвертујућег енз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ункционални поремећаји тромбоц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 атхе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Von Willebrandov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 агрег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 секре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8-19T08:01:30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